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2.wmf" ContentType="image/x-wmf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20.wmf" ContentType="image/x-wmf"/>
  <Override PartName="/ppt/media/image5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</p:sldMasterIdLst>
  <p:notesMasterIdLst>
    <p:notesMasterId r:id="rId35"/>
  </p:notesMasterIdLst>
  <p:sldIdLst>
    <p:sldId id="256" r:id="rId36"/>
    <p:sldId id="257" r:id="rId37"/>
    <p:sldId id="258" r:id="rId38"/>
    <p:sldId id="259" r:id="rId39"/>
    <p:sldId id="260" r:id="rId40"/>
    <p:sldId id="261" r:id="rId41"/>
    <p:sldId id="262" r:id="rId42"/>
    <p:sldId id="263" r:id="rId4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notesMaster" Target="notesMasters/notesMaster1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slide" Target="slides/slide5.xml"/><Relationship Id="rId41" Type="http://schemas.openxmlformats.org/officeDocument/2006/relationships/slide" Target="slides/slide6.xml"/><Relationship Id="rId42" Type="http://schemas.openxmlformats.org/officeDocument/2006/relationships/slide" Target="slides/slide7.xml"/><Relationship Id="rId43" Type="http://schemas.openxmlformats.org/officeDocument/2006/relationships/slide" Target="slides/slide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 type="dt" idx="83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5"/>
          <p:cNvSpPr>
            <a:spLocks noGrp="1"/>
          </p:cNvSpPr>
          <p:nvPr>
            <p:ph type="ftr" idx="84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6"/>
          <p:cNvSpPr>
            <a:spLocks noGrp="1"/>
          </p:cNvSpPr>
          <p:nvPr>
            <p:ph type="sldNum" idx="85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1865-46D3-4330-8382-4D789A21468E}" type="slidenum">
              <a:rPr b="0" lang="en-Z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B307-01EC-4545-8230-C7D13D720448}" type="slidenum">
              <a:rPr b="0" lang="en-ZA" sz="1300" spc="-1" strike="noStrike">
                <a:solidFill>
                  <a:srgbClr val="00389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CCA3-72F2-407A-9320-8FE3283A910D}" type="slidenum">
              <a:rPr b="0" lang="en-Z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79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8245-7FB7-41D4-BE21-AD7490390A44}" type="slidenum">
              <a:rPr b="0" lang="en-ZA" sz="1300" spc="-1" strike="noStrike">
                <a:solidFill>
                  <a:srgbClr val="00389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11126-D824-4703-815A-DA9DF3F632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78ED5-0F9C-497B-990F-574A2FBD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912821-A2E0-4BDA-9DAD-BE8C950D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74CB88-FF93-4D24-8085-67CEDE67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61B697-4D5E-4750-87E2-A99D37E0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DA5EB1-A65F-4F68-983B-BFC233A2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4358EE-A62D-4D7B-841F-CD379BEE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62B369-4F7F-4782-9772-7098B15D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3F1321-C725-4C0C-BA1A-CA70ECE8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4C80AA-1CCF-4D01-8389-BA5595D42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0533F7-33CA-4F96-8F49-1E2FD6E42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1D2BD9-253F-4BF2-97DC-E8BCFF43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CB541-944E-423F-80E1-368BF9F4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0C2E2D-5F3B-47FF-8560-8DAD57E2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436B6C-CC44-4201-984C-36123EA1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D772A5-B5AE-4AC8-9C03-028E54EF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24A25C-0B36-44AC-88FA-4360B058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E16AE7-3DE4-4073-90C3-E9DA721B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11C044-F83F-440F-B36B-34FD3153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FFD71D-A655-4220-8BD3-70C5D656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352EB4-5991-4F7C-8BB3-862B7FF5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621B65-B1C8-44B7-9DAB-73FCD15C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AB0795-77D4-487E-B92B-3440A83A1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96682-1493-48BC-8C3F-B2F322CA3D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40FA7B-5857-4EF6-A1B2-58FA6BE3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344A9B-088B-4103-9F5E-A65FCAB56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B2DE29-24F2-460F-B70B-AE148F43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D7ED32-2086-4D2C-BD6D-8970E108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E119B8-4283-4390-8EBD-6EBF575B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2E6230-4F8E-487E-87D4-8B75E4BF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2D987D-B178-44A9-A103-1EBC2B46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C56C81-C1FC-4817-A8F6-D034C991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098B64-EE99-441C-8BF2-10606DA7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31BE7D-EBEF-438C-BD66-18B7E5B6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754C83-D02C-4953-8026-E13FBAE9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67F436-C304-4FA0-B4AB-764A676CA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FCE62B-1BDA-4A6A-BEE9-41AA7E487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8FAEB6-200F-426B-BE8E-F58F11551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4375DA-3398-4C78-8C47-56F998F1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4AAA79-DAED-46B5-B918-9B6934D6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373370-984C-45CA-8FB7-8C7740B0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E34055-F921-41F6-BC30-29BA6A7A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641E9F-4972-4709-9CFB-BEF72338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956FD0-E0D7-4973-B613-2A59ED78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5759D5-E024-4B7F-B912-C57AD0C5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57C70F-F2E9-4BFD-BEA3-090D6EE1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F57F6E-946E-4C1F-802C-BFC7E586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535CBD-9D5F-4987-A250-957A65BE8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EC8649-A926-4F14-9352-B87F1BD5D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F1E6940-D664-478D-BE49-4B71843D5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FCC88FA-25D5-4741-98E4-DD4530BB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D8AF964-5F75-4A97-86E7-3FFE5FE2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4252718-91B1-48E2-B74D-A8B55101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B86E25E-3270-4959-BBB5-6509FE18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933B36A-61AA-4C7F-AAB7-249CAA8B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5191B50-5C98-4C62-ADF6-4F47D27D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BF3D24A-3563-4F8C-9F71-846F008F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3456ADE-8ACE-4893-BF1A-31DCEA7F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1A13902-4379-4B38-96FC-6EDEF194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6A05CBE-A99B-498A-B35F-FDF0EE747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9213781-F6D3-46DA-8F4C-568449CA8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4831EB-58F7-483B-910C-213D7A1B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9D1C6C-FE99-4688-B58D-698FE0EB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BB1F3E-AE83-4041-901B-5534AC4D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EB45F9-3642-4693-8048-0EA8C8F9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0F8113-7D67-4ADD-A050-CD072D6A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00F2EB-93BE-4082-9AF1-06D1C227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3FEE1C-888C-4298-A41A-5DE52896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44856A-51C4-4A7C-99E1-3CD3D071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E96B72-357F-4744-B6C7-834AFA75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D3061A-3E48-47CE-BCB4-6353F328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147376-6EFD-4ECA-BDD7-AE145B8F1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7D1D1F-360B-43DD-A3EE-2B3007F93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B0EF103-9702-4252-AD30-9FAE9CB68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36D6F23-D509-473A-B259-AFAC6A0F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2A305EB-A89F-4210-BD35-67C02702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8250826-7FD6-4800-8789-0FB9C660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78C8F52-525F-4BFB-AD94-2673E50A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48C86F7-C95C-4664-A30B-4E22EF67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A091F2D-DC10-4B9C-9BEE-724E14FD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F6BC284-963B-4FD1-869D-F06496DE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93F9963-B7F0-4108-BB65-BB37FB29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3842F18-8E3C-4A1C-8DF7-1C8A19ED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B32C3A0-54D9-4976-ABAF-544E44D6D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E2F321F-4577-460F-B1C0-DD158E215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F03A267-8A1E-4E1E-9507-F94D15EA3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C55B376-BB30-47C4-B851-539F95E4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7D6C477-3D6A-42BF-9195-C5359F45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05A5838-DD91-4000-8358-396B9BC5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3D12DB0-A4C3-4D6A-8416-FC6E7DB2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3AE6754-A511-46DE-AE23-2B1EB4C3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9AF3C15-CB0E-42B3-97CB-BCB64937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C7B874C-C722-4918-B632-0933033C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E12BF44-D205-45A2-8A81-6A46EE33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E3CBD1F-5A32-4DDF-81C7-9AA11791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135C4CB-7A3B-48C3-AA4A-860D202D6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D530B0E-7BEA-4D2C-B375-9783B533C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C9F723F-71D2-4217-A28F-2E43288C4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C7D8CD3-F50C-44C7-812D-F7413071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7B39E6E-51DB-4F5C-87AA-20FA0F6C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B13D08B-F0CB-4ECC-9561-932D33A0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1F0C2CB-1FE4-4F39-8AC9-5DCD6225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4B52D18-D010-4FA0-A912-91F4E53C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BF2452D-A9FE-470F-9C51-42DA87A1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9BC28-1FCF-472E-8FE4-A5CA6E0B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830C3AA-0B7A-4888-8C61-FC464452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D2B3931-B840-4641-9D82-15AB5655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AD3DB82-8EEB-49B6-B1A6-77BF1986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6C46E84-ECAA-466D-908E-2BB36D981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E4B384F-8E37-44A9-A65B-F7C49F067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377BBC7-CDAF-45E9-AACC-4A016DBE6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73C2445-793B-4C7E-99DD-AA0646A3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ECF89F5-C884-4EC9-ABC5-7CB1B5CB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A6A3ECE-BC2A-403A-8B02-28190C8B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0EBBD29-615C-4072-A8F2-207860AE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4CC6F44-42C2-43C1-BF91-6602D4C3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25A4988-7344-4CBD-BFBE-8F63036B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D9C2FDE-F694-4B16-B27A-A2E6CE4B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EADE880-2D84-4BFB-B0FC-4E1C02CE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B009DC7-A7AD-49D7-88FC-AC7AB537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D762651-81A6-4B0A-B9B1-EA6C42885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337B266-D52E-46C4-9DCA-FBA8546BB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CF26ABC-E20F-47C9-9AB2-89425987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48CF437-1A2F-4754-ACAE-E1E71744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BFBA04B-A26D-4648-AE1D-ED213DE5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AAE7E11-7F28-4E41-83C3-2B5C3943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D31897A-7AC9-4F28-AAFB-7EA0D5DE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986208B-25C7-4152-A229-A0CF8BD2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87C805A-6C9D-4359-8497-6683B057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CD346E0-40AA-47B2-873F-BFEA1A11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71E3F68-6444-4B54-BB30-42BA9D67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02DE9-947B-4DCA-ABE4-31C663DD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00C44C6-580F-468D-A31A-1FCFE255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7294D66-68EC-484C-85EB-6B3998D9D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0E0696C-2053-4292-8C0E-422243402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DDCC5-C5CB-4495-8AB8-8BDC9A69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3597117-DEB6-491D-B0A7-A6090575B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30EDA54-F346-471B-BC3A-6D3CA01E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79C8AE2-C4DB-4A15-AFA8-7C1DC8DC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572B9A1-7669-4362-BBEB-EC76EBE7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41E2C0C-88FE-4348-AD55-A8AE3402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6E793-9AF2-4A5B-A052-A8155C27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4B3465E-9E4B-40C2-AD58-FB3B5AA4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9CC1825-6186-4F4A-BE46-33D0FFAD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BAC45E8-C5C4-4ECE-B169-C1BE6529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31A8FF9-B00A-42D8-A1EE-966ABA89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BB459F4-F46E-4AE3-9ED3-077AC081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5469129-6772-4632-8C54-3F6131D73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90D852F-3981-40C3-B1C0-971C2C2E6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A665D55-90F7-42BF-9189-3315F4934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17CDA66-A636-4133-A5B3-7C1F9FEF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EB3CE7B-3E40-4B7E-8BBD-6BDE9CD8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E282D-94E0-42F9-8F7C-C223527E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CBC96E6-6934-459D-993D-5C64B6E2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D4738D5-B934-4DEE-A8A4-2D9C1C32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17F9391-D92C-4623-AFED-4C015171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89D3A41-79AA-424F-A164-B4A68ADD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EA83800-856F-499F-AF2A-309248EC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9AEBC5E-A8D5-4446-96BF-2D901D46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321155C-DFE2-4D7E-9DF5-231C16C7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C800424-B60F-4D75-8E51-9B42F9B18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23F2601-06ED-4C96-B2DC-3EDAE3A4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3CC8698-BCE4-44FC-A8BC-29335140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B2A3D-6CB8-4236-84A9-2322FFB6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0C8BCB7-5DE4-487D-99B6-31E8966E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DBD58F9-3AC3-4FE3-96DE-55601DE6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B37CCBD-2190-4876-8428-C5479D0C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44B3994-7578-4288-B505-E366383F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406B694-DEDC-4BBC-8A43-59E0B5A3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57110CD-7731-4C63-8927-098AEE35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1CCB2D4-A250-43D0-BCA2-F84609BC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E4DDFDA-5A01-4CEF-95EC-22A361AD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8B5761D-93A0-44D6-B593-AF48613F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F86834E-74FE-47F8-B1AD-256DCD148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E2750-BF6B-47E0-AF38-9D96079E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47812-8203-48E9-B08F-CF1FABCB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3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3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3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1BAFA94-7861-4792-A8CE-6900B6B64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B3C0038-E870-416D-811A-2EA3807B6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02A9A25-10C7-47B5-925F-AA668B98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D0EC725-88F8-46D4-A45D-90D219D9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C9603C8-5692-428D-9295-8BBB49D4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728F460-AF26-42EC-B4A1-E7B90D48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627640C-1D31-4E05-AD22-D9F5F54B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87F6F5E-AB0E-44E4-B549-C3FDCFDD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C1E9269-479B-4E42-AEAB-3C55F921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13AE2FA-18E2-417C-9F58-B03760B4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5FE9C-1C0B-4452-AEB5-BA0287B9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A96468D-920A-4144-A3DB-903C74BA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AF092D5-2673-4EA9-83C5-F51574218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4B20FF1-B3F8-49F5-8BC7-7B8AAD20A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63FEBE1-26A2-4137-BC9F-37594405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C547F68-4597-4204-A191-A19D9468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E0A99BA-66B3-4A94-908F-795D3D8C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DF49348-49F2-4142-A55F-E94560C3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4276DE6-8006-4152-B4A9-4A93056E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C6E8C9A-2CCB-42A7-AA0F-4E19E2F8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D8782CA-385B-41BD-B0DC-6EF18638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92F05-D94E-4E2A-8C01-9BF9596B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B5C52FF-0EA3-46ED-96AA-439320B0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85BD55C-F6C0-49A4-A7F6-34B3963D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53EDDA7-3C6E-4892-A989-601C8E56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6650B84-2186-4CD5-B057-DCD42ECFB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2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2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7A7B03F-0CD1-479A-A66F-6E3F66D2F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64DA312-8515-44CE-B4AF-BB0EAF94A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6004C5E-CEFE-448D-B83A-B7C30E9D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0986B02-BB1F-42E6-A589-2FDE0607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84999E8-9EBE-48AA-BE9F-C1143615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2B90936-021F-4A4C-A47A-78C049CA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37A81-BB9A-4F43-B4BC-5027AF55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570272D-B419-4CD3-8C3B-FA1C4052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61F4912-2116-4B83-A3EF-EB626450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10BB893-65E6-48F6-AE17-08525A5F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0188CEE-0971-4FC7-89F8-5DC915F1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755A11C-7147-4FC4-82B6-C0271936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AAF0E8E-4444-40EF-909C-BFA2B65B7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F613987-4FA5-42DD-90B3-F0243BF53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F4BE7DC-0AB5-415E-8FAE-9000BF1B0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7E24C0D-CB78-4AFD-BB4A-7869245C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2113F30-746E-4E8C-AF40-01591E2C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8AA42-7DFB-4416-97E2-5D6A64AE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831B620-6D9C-4EF8-838A-3B2E40DC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B77FB8B-61A8-40BA-AAAC-54852897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A6CA59F-C746-4D25-B660-4798976D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2B78941-6340-41C4-818D-A5FE3BC0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F1BEB50-95F3-48D0-A581-B3F8B518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7E3F670-FE0A-4CC6-9E9E-335A6C8A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690B761-D74A-40AD-BB7B-EBFBA84C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17AC018-1962-4B9B-AED6-0E42F31A2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FA125CC-B87E-48C9-AB07-2A3F844BA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E3245B8-8179-44DF-923D-99A6C718A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73768-D1C9-48F4-9DDE-D0BDCC181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82E2D24-808F-4AE3-9512-0873CF43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5499A46-FD76-4585-B234-896968CF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EFBB353-4871-4262-B057-71AB8A35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6BB3027-64A0-42CB-B2E7-48FD6EE1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84B6DA8-6168-4573-A854-BBE97A57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8F21B3C-EE09-49FC-883F-473A2AAB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5AC8457-6D86-449C-8BE5-68B54222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B7C697C-AB79-4455-BDEB-56E5836A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80F7B37-51F7-471D-84FA-67FF3D65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5DF7B9F-01B6-44CC-B16A-536EB8D9A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EB6AE-8BC6-4BD4-8B83-1FE356D81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7B4DB3F-FB05-481C-9FEB-6A833418F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6A54DED-E639-406A-B722-8C0A4EBAD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E912EE1-2FDD-404A-A7F1-00F8A49A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D78312C-222F-4B26-93C3-BC36A7BF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CE44F65-A154-4687-A346-56B872F0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52CA165-DDEF-4AB8-8C5D-D2AACA5F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ABF01A1-3429-42C1-B503-3512499C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7A4BB00-7079-4BEC-8E61-3E585BA4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0642746-15D5-46AD-848D-3BFE5FD2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568DCA8-7A58-4F70-9DC0-BFBEBB75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9AED10-37C4-4F4B-9B4B-2359C5F35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0222460-22F6-46AC-8684-39441116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D90AE3D-7BA0-4B56-955F-974CBCAE8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B816152-19DF-4440-8157-4E49DBC60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F4BE8D2-5BB3-40D7-91CC-083ACEE32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F60C426-24CC-491D-B9D9-26F6184C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597FFB7-0D78-41F8-9DAC-322C8C63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98538EE-FFD4-49EE-B8D4-21964340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03E7346-F366-49B1-A0D2-9EBCEBF6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4888C8C-FA88-4BD1-8F24-B6660448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D5DA34C-8FC4-4B0F-B761-C0F7D3C8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F51D01-F540-4625-928D-65B72C13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869307C-4C9A-48D5-978B-53400927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37CCBE8-DBE4-43D4-8885-A1DA1B4E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5823489-9047-41C9-903D-CBE8AC2D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3081161-2DAE-4FDA-841E-55EB5E696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4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4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4702E7E-E59D-4EA4-8C55-0E56758E4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111E6DE-6BE4-4A58-AB85-21FBB5004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6CC933A-D380-4901-AE3D-EAC22461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8E69D82-CAD3-4AFA-9940-2F008DF8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AC28084-D9F0-467D-BF06-2B711B5E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9719D81-AC95-4832-B600-889E4EED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7591D3-47A6-42B5-903B-35530C43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1C20CC2-E6FD-4070-BB05-E947B754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253215C-48DE-41BC-B448-BD03122E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DFD49ED-D669-452C-A924-2ABD0C02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E5CBC49-B99E-4426-AABD-2D50E651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D2A4514-F4E3-47A6-88F3-3E7654B7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957C0E9-AA8E-4C44-8B5D-6090F2EEA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6B93EE0-1ED8-43BA-9E44-64D787F0F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E3585-1E45-4D78-A8F6-5503EA58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6ED75F-64CD-4DF6-B916-A4D1E039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FB7217-6207-4B2D-BF49-CC235A23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1360F2-634E-403C-8516-FEC6A639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829586-6F12-43B7-81A6-5D7E8131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138CD0-75AE-4DF8-9EC4-477885BB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52213C-9FBF-4BFE-BBA6-92DFA6D1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809E78-461D-454D-82BC-8B61A9C6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265C92-6343-4780-81EB-4134B2114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3A0D10-2EE5-4BA2-BB19-3F3436635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CF41C3-1ED6-47B1-84BB-58A0919DA5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10015-2908-46BF-BD08-B23AB2F7A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A5B3B1-3538-4452-BF63-00FD3F26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3BEE54-E1E6-4D4F-B0B9-DB61C210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CF7BBC-2FAB-48F6-AE08-EFB025E9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373092-A214-4F1E-B1E1-6390A3188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C2049F-663B-4BF1-8EFE-CC64966C3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3670DA-06D0-44BE-BB7C-6BC0C567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8AF8EF-4DBD-421C-96A6-80C3B908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098891-A357-4CF9-9E5F-3DB0D69B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C789F1-1107-4BA7-B4AC-14726318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0D4903-FD52-4D17-8F98-4F8CE639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EFE64-05A1-414C-985C-D71B2360B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905B0A-E15D-4E1A-B374-9EE8B498D6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BB28B1-5157-40B9-BEC6-4BF7E963B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FA9685-7BE5-4CFB-9678-588E0A60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183384-60A5-433A-9A1C-C1FBF4DC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53D2D8-A558-4CC0-A454-B438D09F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F280C0-D154-40C3-9EFB-59EC105A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C9B67B-CBCB-433F-9D9B-F2418D8C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A1A712-F990-4BD4-852B-21C2C7AF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42A8C7-EE32-4020-889F-CEA8328D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85099D-9069-40F4-AF4C-F156B04E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FD77C-5A10-457B-AA29-C92AAEFD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6E836E-B281-4333-BC28-33131092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2F7C09-37E4-400C-8803-9638EE528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874468-44AD-4D71-B98F-2FDB01373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64BD0-3668-40EE-957C-5A64D0EE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5B4ED9-88B0-44D8-973B-7F110568F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A4961F-100A-4D88-A451-EF96791F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9CFDDE-438A-4349-8456-B6C8371E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0941A8-D2DB-4DF8-858B-EA538727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F7EC7A-48E9-4048-8180-524A454A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5AF1E-1421-490C-A058-530A6961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FA655E-130F-4EB2-A2E8-E43C47B2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F40512-7AC1-45C6-B782-5CF5349F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560DA5-9BEC-4FD5-823F-528DAA4A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A39FF9-48A6-48A5-B445-2405C1A4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35F03A-B2F0-4154-8AB9-2F326F2B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60F825-379C-4955-A1AF-10E2AAFEC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6F2E16-9C3D-40B5-A064-BBAB21157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40A2DB-6C40-4EDD-AE87-9FDFFE767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83D896-B33E-4058-9346-DDEE2555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755C5D-9342-4D7C-841E-5F640A7C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1.jpeg"/><Relationship Id="rId3" Type="http://schemas.openxmlformats.org/officeDocument/2006/relationships/image" Target="../media/image5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217.xml"/><Relationship Id="rId9" Type="http://schemas.openxmlformats.org/officeDocument/2006/relationships/slideLayout" Target="../slideLayouts/slideLayout218.xml"/><Relationship Id="rId10" Type="http://schemas.openxmlformats.org/officeDocument/2006/relationships/slideLayout" Target="../slideLayouts/slideLayout219.xml"/><Relationship Id="rId11" Type="http://schemas.openxmlformats.org/officeDocument/2006/relationships/slideLayout" Target="../slideLayouts/slideLayout220.xml"/><Relationship Id="rId12" Type="http://schemas.openxmlformats.org/officeDocument/2006/relationships/slideLayout" Target="../slideLayouts/slideLayout221.xml"/><Relationship Id="rId13" Type="http://schemas.openxmlformats.org/officeDocument/2006/relationships/slideLayout" Target="../slideLayouts/slideLayout222.xml"/><Relationship Id="rId14" Type="http://schemas.openxmlformats.org/officeDocument/2006/relationships/slideLayout" Target="../slideLayouts/slideLayout223.xml"/><Relationship Id="rId15" Type="http://schemas.openxmlformats.org/officeDocument/2006/relationships/slideLayout" Target="../slideLayouts/slideLayout224.xml"/><Relationship Id="rId16" Type="http://schemas.openxmlformats.org/officeDocument/2006/relationships/slideLayout" Target="../slideLayouts/slideLayout225.xml"/><Relationship Id="rId17" Type="http://schemas.openxmlformats.org/officeDocument/2006/relationships/slideLayout" Target="../slideLayouts/slideLayout226.xml"/><Relationship Id="rId18" Type="http://schemas.openxmlformats.org/officeDocument/2006/relationships/slideLayout" Target="../slideLayouts/slideLayout227.xml"/><Relationship Id="rId19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image" Target="../media/image7.jpeg"/><Relationship Id="rId12" Type="http://schemas.openxmlformats.org/officeDocument/2006/relationships/image" Target="../media/image8.jpeg"/><Relationship Id="rId13" Type="http://schemas.openxmlformats.org/officeDocument/2006/relationships/image" Target="../media/image9.jpe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1.jpeg"/><Relationship Id="rId3" Type="http://schemas.openxmlformats.org/officeDocument/2006/relationships/image" Target="../media/image5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229.xml"/><Relationship Id="rId9" Type="http://schemas.openxmlformats.org/officeDocument/2006/relationships/slideLayout" Target="../slideLayouts/slideLayout230.xml"/><Relationship Id="rId10" Type="http://schemas.openxmlformats.org/officeDocument/2006/relationships/slideLayout" Target="../slideLayouts/slideLayout231.xml"/><Relationship Id="rId11" Type="http://schemas.openxmlformats.org/officeDocument/2006/relationships/slideLayout" Target="../slideLayouts/slideLayout232.xml"/><Relationship Id="rId12" Type="http://schemas.openxmlformats.org/officeDocument/2006/relationships/slideLayout" Target="../slideLayouts/slideLayout233.xml"/><Relationship Id="rId13" Type="http://schemas.openxmlformats.org/officeDocument/2006/relationships/slideLayout" Target="../slideLayouts/slideLayout234.xml"/><Relationship Id="rId14" Type="http://schemas.openxmlformats.org/officeDocument/2006/relationships/slideLayout" Target="../slideLayouts/slideLayout235.xml"/><Relationship Id="rId15" Type="http://schemas.openxmlformats.org/officeDocument/2006/relationships/slideLayout" Target="../slideLayouts/slideLayout236.xml"/><Relationship Id="rId16" Type="http://schemas.openxmlformats.org/officeDocument/2006/relationships/slideLayout" Target="../slideLayouts/slideLayout237.xml"/><Relationship Id="rId17" Type="http://schemas.openxmlformats.org/officeDocument/2006/relationships/slideLayout" Target="../slideLayouts/slideLayout238.xml"/><Relationship Id="rId18" Type="http://schemas.openxmlformats.org/officeDocument/2006/relationships/slideLayout" Target="../slideLayouts/slideLayout239.xml"/><Relationship Id="rId19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253.xml"/><Relationship Id="rId9" Type="http://schemas.openxmlformats.org/officeDocument/2006/relationships/slideLayout" Target="../slideLayouts/slideLayout254.xml"/><Relationship Id="rId10" Type="http://schemas.openxmlformats.org/officeDocument/2006/relationships/slideLayout" Target="../slideLayouts/slideLayout255.xml"/><Relationship Id="rId11" Type="http://schemas.openxmlformats.org/officeDocument/2006/relationships/slideLayout" Target="../slideLayouts/slideLayout256.xml"/><Relationship Id="rId12" Type="http://schemas.openxmlformats.org/officeDocument/2006/relationships/slideLayout" Target="../slideLayouts/slideLayout257.xml"/><Relationship Id="rId13" Type="http://schemas.openxmlformats.org/officeDocument/2006/relationships/slideLayout" Target="../slideLayouts/slideLayout258.xml"/><Relationship Id="rId14" Type="http://schemas.openxmlformats.org/officeDocument/2006/relationships/slideLayout" Target="../slideLayouts/slideLayout259.xml"/><Relationship Id="rId15" Type="http://schemas.openxmlformats.org/officeDocument/2006/relationships/slideLayout" Target="../slideLayouts/slideLayout260.xml"/><Relationship Id="rId16" Type="http://schemas.openxmlformats.org/officeDocument/2006/relationships/slideLayout" Target="../slideLayouts/slideLayout261.xml"/><Relationship Id="rId17" Type="http://schemas.openxmlformats.org/officeDocument/2006/relationships/slideLayout" Target="../slideLayouts/slideLayout262.xml"/><Relationship Id="rId18" Type="http://schemas.openxmlformats.org/officeDocument/2006/relationships/slideLayout" Target="../slideLayouts/slideLayout263.xml"/><Relationship Id="rId19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0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A772-526D-4769-B93E-EC026599A542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A3CE-3E37-48E9-8A71-A7316D9BF012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20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8BE8-924E-4A2F-9479-40D7C3B1D452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1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22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5010-C510-434E-A035-DF86ACEDD89D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2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A80F-98D0-43A5-8F57-46782953EBF5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24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25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336C-FDB8-4139-BF29-B9AD235B74BC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26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9CBF-5669-47BD-97E1-4D313EF19D14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27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28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0105-F6C7-4B72-AC96-FE4D88F4DDC4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2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A756-7E7A-4CF0-81AF-63D31E9005AC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30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sldNum" idx="31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021A-E14A-4552-95C8-59BECFC2AA23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32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AA04-4542-48A6-811B-6B63A95B342F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33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34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EFDA-99A1-4833-8A8C-577D0B660F57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35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4195-5130-4D7F-96F8-59D92BD4474E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36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37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84AD-5CD4-4216-9BC8-214F6D380191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38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D733-54E1-4B1E-8164-18E32861CB1F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39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0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C3D2-F039-4FF4-A101-EFCD8124F0CB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4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7034-F572-4171-A0F0-1BEF9F07281D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ftr" idx="42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sldNum" idx="43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220B-44E0-4F84-93EF-5BCD42BAF970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868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4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4CFF-33A8-4461-BC9A-ABEC5D0519CF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45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46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5C31-0AEA-4B51-AB52-11B54AE2840F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0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911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2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913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4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5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6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7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8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9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0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1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2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3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4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5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6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7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8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9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0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1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2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3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4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5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6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7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8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9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0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1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2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3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4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5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6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7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8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9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0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1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2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3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4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8"/>
    <p:sldLayoutId id="2147483884" r:id="rId9"/>
    <p:sldLayoutId id="2147483885" r:id="rId10"/>
    <p:sldLayoutId id="2147483886" r:id="rId11"/>
    <p:sldLayoutId id="2147483887" r:id="rId12"/>
    <p:sldLayoutId id="2147483888" r:id="rId13"/>
    <p:sldLayoutId id="2147483889" r:id="rId14"/>
    <p:sldLayoutId id="2147483890" r:id="rId15"/>
    <p:sldLayoutId id="2147483891" r:id="rId16"/>
    <p:sldLayoutId id="2147483892" r:id="rId17"/>
    <p:sldLayoutId id="2147483893" r:id="rId18"/>
    <p:sldLayoutId id="2147483894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44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46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48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49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0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1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2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3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4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5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6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7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8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9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0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1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2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3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4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5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6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7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8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9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0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1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2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3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4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5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6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1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2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3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4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5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6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7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90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91" name="Picture 148" descr="logo small"/>
            <p:cNvPicPr/>
            <p:nvPr/>
          </p:nvPicPr>
          <p:blipFill>
            <a:blip r:embed="rId8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93" name="Picture 23" descr="dd"/>
            <p:cNvPicPr/>
            <p:nvPr/>
          </p:nvPicPr>
          <p:blipFill>
            <a:blip r:embed="rId9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6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7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8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9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4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5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6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7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8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9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0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1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6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7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8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9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0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1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2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3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4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5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6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7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8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9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0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1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2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3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4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3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994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5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996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7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98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99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0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1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2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3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4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5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6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7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8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9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0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1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2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3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4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5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6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7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8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9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0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1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2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3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4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5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6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7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8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9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0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1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2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3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4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5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6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7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8"/>
    <p:sldLayoutId id="2147483897" r:id="rId9"/>
    <p:sldLayoutId id="2147483898" r:id="rId10"/>
    <p:sldLayoutId id="2147483899" r:id="rId11"/>
    <p:sldLayoutId id="2147483900" r:id="rId12"/>
    <p:sldLayoutId id="2147483901" r:id="rId13"/>
    <p:sldLayoutId id="2147483902" r:id="rId14"/>
    <p:sldLayoutId id="2147483903" r:id="rId15"/>
    <p:sldLayoutId id="2147483904" r:id="rId16"/>
    <p:sldLayoutId id="2147483905" r:id="rId17"/>
    <p:sldLayoutId id="2147483906" r:id="rId18"/>
    <p:sldLayoutId id="2147483907" r:id="rId19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dt" idx="4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28EA-971C-4A7C-A123-E09F84CCDF34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ftr" idx="4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 type="sldNum" idx="4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8068-7D7E-486C-B811-085F5EE25257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9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1120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1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1122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3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4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5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6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7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8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9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0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1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2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3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4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5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6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7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8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9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0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1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2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3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4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5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6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7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8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9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0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1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2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3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4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5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6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7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8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9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60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61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62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63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8"/>
    <p:sldLayoutId id="2147483923" r:id="rId9"/>
    <p:sldLayoutId id="2147483924" r:id="rId10"/>
    <p:sldLayoutId id="2147483925" r:id="rId11"/>
    <p:sldLayoutId id="2147483926" r:id="rId12"/>
    <p:sldLayoutId id="2147483927" r:id="rId13"/>
    <p:sldLayoutId id="2147483928" r:id="rId14"/>
    <p:sldLayoutId id="2147483929" r:id="rId15"/>
    <p:sldLayoutId id="2147483930" r:id="rId16"/>
    <p:sldLayoutId id="2147483931" r:id="rId17"/>
    <p:sldLayoutId id="2147483932" r:id="rId18"/>
    <p:sldLayoutId id="2147483933" r:id="rId19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20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204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 type="dt" idx="50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8548-EBA1-4FB2-B87F-7BFD5BDD43FC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 type="ftr" idx="51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 type="sldNum" idx="52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B3EE-9C67-4FCD-9F05-85D82B6C5016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24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248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 type="dt" idx="5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4CF4-E889-460F-ACC8-A065FCB06498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 type="ftr" idx="54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 type="sldNum" idx="55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768E-8F37-4D0B-B332-204657F7B317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29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292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 type="dt" idx="56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86F5-4F4B-4648-8D22-34EBA53D0D2C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 type="ftr" idx="57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 type="sldNum" idx="58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9275-72E0-4B88-B052-CDEC1CB09FD3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 type="dt" idx="5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4438-2A96-4F83-9F38-2E486FE8A999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 type="ftr" idx="60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 type="sldNum" idx="61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5A9A-50A8-4D8A-BB26-427390D2EA98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37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380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 type="dt" idx="62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B1B5-E269-4539-A3B1-3B6767192F27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 type="ftr" idx="63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 type="sldNum" idx="64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86D3-F532-439F-A6D4-512D13E0D133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42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424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 type="dt" idx="65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25F6-5457-46DC-907D-7987E900EE00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 type="ftr" idx="66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 type="sldNum" idx="67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C8E8-1EB3-469A-A5F4-5C23ADDCC0DE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 type="dt" idx="68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F86B-850B-40A2-9C5C-8DF53ADD6999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 type="ftr" idx="69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 type="sldNum" idx="70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16C4-B058-4844-B20F-469894F9CA0E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4471-86B7-4947-9B8E-E14FD27A85B7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4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5"/>
          </p:nvPr>
        </p:nvSpPr>
        <p:spPr>
          <a:xfrm>
            <a:off x="7164360" y="6453000"/>
            <a:ext cx="16509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C881-C54B-4203-AF3D-51D0CB1C0907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51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512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 type="dt" idx="7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799B-277C-445C-981A-82DF78729C16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 type="ftr" idx="72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 type="sldNum" idx="73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8383-18BE-4EBE-9769-456A97426595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55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556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 type="dt" idx="7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D37E-17EC-4F4C-8318-4F6579141295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 type="ftr" idx="75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61" name="PlaceHolder 5"/>
          <p:cNvSpPr>
            <a:spLocks noGrp="1"/>
          </p:cNvSpPr>
          <p:nvPr>
            <p:ph type="sldNum" idx="76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D6A1-E541-4B87-A988-E067022BA941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59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600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 type="dt" idx="77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E615-5375-438F-AC98-8C1F1AE4064E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 type="ftr" idx="78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05" name="PlaceHolder 5"/>
          <p:cNvSpPr>
            <a:spLocks noGrp="1"/>
          </p:cNvSpPr>
          <p:nvPr>
            <p:ph type="sldNum" idx="79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72DE-79D8-43FE-AC4A-C9B03039F5BA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 type="dt" idx="80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86D9-EC43-43C0-A689-506B7DE239AD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 type="ftr" idx="81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49" name="PlaceHolder 5"/>
          <p:cNvSpPr>
            <a:spLocks noGrp="1"/>
          </p:cNvSpPr>
          <p:nvPr>
            <p:ph type="sldNum" idx="82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26F6-7E23-4CA8-A579-C255CE0D5B29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6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4BC1-83FB-42E4-92D8-3739E5523F52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7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8"/>
          </p:nvPr>
        </p:nvSpPr>
        <p:spPr>
          <a:xfrm>
            <a:off x="7164360" y="6453000"/>
            <a:ext cx="16509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556B-1198-4AF8-9955-C0D4C0601C5C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5146-D48D-415B-A480-A9149C9F6D0C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sldNum" idx="10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45BC-7E10-4E13-840C-81AC559EEDD7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4853-FFEB-496C-BF44-4D8109F4F6AC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9532-D8D5-4921-A987-0EE3D22FC30F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344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346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48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49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0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1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2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3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4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5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6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7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8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9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0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1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2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3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4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5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6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7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8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9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0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1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2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3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4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5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6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7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8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9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0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1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2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3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4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5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6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7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1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6578-8861-41C7-B207-A0E6ACC81876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15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16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3394-46A1-4722-B454-14D1B6F16BD7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17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9C46-E6A4-465B-8A55-F5C09CEFB3E9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18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19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88C8-BD3E-473C-A712-CBDF18D190DC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Rectangle 2"/>
          <p:cNvSpPr/>
          <p:nvPr/>
        </p:nvSpPr>
        <p:spPr>
          <a:xfrm>
            <a:off x="0" y="0"/>
            <a:ext cx="3059280" cy="6858000"/>
          </a:xfrm>
          <a:prstGeom prst="rect">
            <a:avLst/>
          </a:prstGeom>
          <a:solidFill>
            <a:srgbClr val="0038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1694" name="Group 162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1695" name="Picture 23" descr="dd"/>
            <p:cNvPicPr/>
            <p:nvPr/>
          </p:nvPicPr>
          <p:blipFill>
            <a:blip r:embed="rId1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6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697" name="Group 155"/>
          <p:cNvGrpSpPr/>
          <p:nvPr/>
        </p:nvGrpSpPr>
        <p:grpSpPr>
          <a:xfrm>
            <a:off x="257040" y="1201680"/>
            <a:ext cx="2482920" cy="2444760"/>
            <a:chOff x="257040" y="1201680"/>
            <a:chExt cx="2482920" cy="2444760"/>
          </a:xfrm>
        </p:grpSpPr>
        <p:sp>
          <p:nvSpPr>
            <p:cNvPr id="1698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99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0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1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2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03" name="Oval 102"/>
          <p:cNvGrpSpPr/>
          <p:nvPr/>
        </p:nvGrpSpPr>
        <p:grpSpPr>
          <a:xfrm>
            <a:off x="438120" y="1359000"/>
            <a:ext cx="2158920" cy="2176200"/>
            <a:chOff x="438120" y="1359000"/>
            <a:chExt cx="2158920" cy="2176200"/>
          </a:xfrm>
        </p:grpSpPr>
        <p:pic>
          <p:nvPicPr>
            <p:cNvPr id="1704" name="Oval 102" descr=""/>
            <p:cNvPicPr/>
            <p:nvPr/>
          </p:nvPicPr>
          <p:blipFill>
            <a:blip r:embed="rId2"/>
            <a:stretch/>
          </p:blipFill>
          <p:spPr>
            <a:xfrm>
              <a:off x="438120" y="1359000"/>
              <a:ext cx="2158920" cy="21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5" name=""/>
            <p:cNvSpPr/>
            <p:nvPr/>
          </p:nvSpPr>
          <p:spPr>
            <a:xfrm>
              <a:off x="752400" y="1679400"/>
              <a:ext cx="1530360" cy="15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06" name="Group 156"/>
          <p:cNvGrpSpPr/>
          <p:nvPr/>
        </p:nvGrpSpPr>
        <p:grpSpPr>
          <a:xfrm>
            <a:off x="171360" y="1201680"/>
            <a:ext cx="2643120" cy="2494080"/>
            <a:chOff x="171360" y="1201680"/>
            <a:chExt cx="2643120" cy="2494080"/>
          </a:xfrm>
        </p:grpSpPr>
        <p:sp>
          <p:nvSpPr>
            <p:cNvPr id="1707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8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9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10" name="Group 146"/>
          <p:cNvGrpSpPr/>
          <p:nvPr/>
        </p:nvGrpSpPr>
        <p:grpSpPr>
          <a:xfrm>
            <a:off x="912960" y="620640"/>
            <a:ext cx="1284120" cy="1260720"/>
            <a:chOff x="912960" y="620640"/>
            <a:chExt cx="1284120" cy="1260720"/>
          </a:xfrm>
        </p:grpSpPr>
        <p:sp>
          <p:nvSpPr>
            <p:cNvPr id="1711" name="Oval 147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2" name="Oval 148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3" name="Oval 149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4" name="Oval 150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5" name="Oval 151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6" name="Oval 152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7" name="Oval 153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8" name="Oval 154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19" name="Oval 118"/>
          <p:cNvGrpSpPr/>
          <p:nvPr/>
        </p:nvGrpSpPr>
        <p:grpSpPr>
          <a:xfrm>
            <a:off x="974880" y="706320"/>
            <a:ext cx="1109520" cy="1109880"/>
            <a:chOff x="974880" y="706320"/>
            <a:chExt cx="1109520" cy="1109880"/>
          </a:xfrm>
        </p:grpSpPr>
        <p:pic>
          <p:nvPicPr>
            <p:cNvPr id="1720" name="Oval 118" descr=""/>
            <p:cNvPicPr/>
            <p:nvPr/>
          </p:nvPicPr>
          <p:blipFill>
            <a:blip r:embed="rId3"/>
            <a:stretch/>
          </p:blipFill>
          <p:spPr>
            <a:xfrm>
              <a:off x="974880" y="706320"/>
              <a:ext cx="110952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1" name=""/>
            <p:cNvSpPr/>
            <p:nvPr/>
          </p:nvSpPr>
          <p:spPr>
            <a:xfrm>
              <a:off x="1138320" y="870120"/>
              <a:ext cx="7840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22" name="Group 145"/>
          <p:cNvGrpSpPr/>
          <p:nvPr/>
        </p:nvGrpSpPr>
        <p:grpSpPr>
          <a:xfrm>
            <a:off x="863640" y="620640"/>
            <a:ext cx="1369800" cy="1284480"/>
            <a:chOff x="863640" y="620640"/>
            <a:chExt cx="1369800" cy="1284480"/>
          </a:xfrm>
        </p:grpSpPr>
        <p:sp>
          <p:nvSpPr>
            <p:cNvPr id="1723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24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25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26" name="Group 157"/>
          <p:cNvGrpSpPr/>
          <p:nvPr/>
        </p:nvGrpSpPr>
        <p:grpSpPr>
          <a:xfrm>
            <a:off x="331920" y="3090960"/>
            <a:ext cx="2074680" cy="2038320"/>
            <a:chOff x="331920" y="3090960"/>
            <a:chExt cx="2074680" cy="2038320"/>
          </a:xfrm>
        </p:grpSpPr>
        <p:sp>
          <p:nvSpPr>
            <p:cNvPr id="1727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28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29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30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31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32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33" name="Oval 128"/>
          <p:cNvGrpSpPr/>
          <p:nvPr/>
        </p:nvGrpSpPr>
        <p:grpSpPr>
          <a:xfrm>
            <a:off x="480960" y="3224160"/>
            <a:ext cx="1805040" cy="1817640"/>
            <a:chOff x="480960" y="3224160"/>
            <a:chExt cx="1805040" cy="1817640"/>
          </a:xfrm>
        </p:grpSpPr>
        <p:pic>
          <p:nvPicPr>
            <p:cNvPr id="1734" name="Oval 128" descr=""/>
            <p:cNvPicPr/>
            <p:nvPr/>
          </p:nvPicPr>
          <p:blipFill>
            <a:blip r:embed="rId4"/>
            <a:stretch/>
          </p:blipFill>
          <p:spPr>
            <a:xfrm>
              <a:off x="480960" y="3224160"/>
              <a:ext cx="180504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5" name=""/>
            <p:cNvSpPr/>
            <p:nvPr/>
          </p:nvSpPr>
          <p:spPr>
            <a:xfrm>
              <a:off x="746280" y="3492360"/>
              <a:ext cx="1274760" cy="12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36" name="Group 158"/>
          <p:cNvGrpSpPr/>
          <p:nvPr/>
        </p:nvGrpSpPr>
        <p:grpSpPr>
          <a:xfrm>
            <a:off x="257040" y="3090960"/>
            <a:ext cx="2211480" cy="2087640"/>
            <a:chOff x="257040" y="3090960"/>
            <a:chExt cx="2211480" cy="2087640"/>
          </a:xfrm>
        </p:grpSpPr>
        <p:sp>
          <p:nvSpPr>
            <p:cNvPr id="1737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38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39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40" name="Group 159"/>
          <p:cNvGrpSpPr/>
          <p:nvPr/>
        </p:nvGrpSpPr>
        <p:grpSpPr>
          <a:xfrm>
            <a:off x="900000" y="4684680"/>
            <a:ext cx="1717920" cy="1692360"/>
            <a:chOff x="900000" y="4684680"/>
            <a:chExt cx="1717920" cy="1692360"/>
          </a:xfrm>
        </p:grpSpPr>
        <p:sp>
          <p:nvSpPr>
            <p:cNvPr id="1741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42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43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44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45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46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47" name="Oval 138"/>
          <p:cNvGrpSpPr/>
          <p:nvPr/>
        </p:nvGrpSpPr>
        <p:grpSpPr>
          <a:xfrm>
            <a:off x="1011240" y="4791240"/>
            <a:ext cx="1512720" cy="1517400"/>
            <a:chOff x="1011240" y="4791240"/>
            <a:chExt cx="1512720" cy="1517400"/>
          </a:xfrm>
        </p:grpSpPr>
        <p:pic>
          <p:nvPicPr>
            <p:cNvPr id="1748" name="Oval 138" descr=""/>
            <p:cNvPicPr/>
            <p:nvPr/>
          </p:nvPicPr>
          <p:blipFill>
            <a:blip r:embed="rId5"/>
            <a:stretch/>
          </p:blipFill>
          <p:spPr>
            <a:xfrm>
              <a:off x="1011240" y="4791240"/>
              <a:ext cx="1512720" cy="151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9" name=""/>
            <p:cNvSpPr/>
            <p:nvPr/>
          </p:nvSpPr>
          <p:spPr>
            <a:xfrm>
              <a:off x="1235160" y="5013360"/>
              <a:ext cx="106524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50" name="Group 160"/>
          <p:cNvGrpSpPr/>
          <p:nvPr/>
        </p:nvGrpSpPr>
        <p:grpSpPr>
          <a:xfrm>
            <a:off x="838080" y="4684680"/>
            <a:ext cx="1828800" cy="1728720"/>
            <a:chOff x="838080" y="4684680"/>
            <a:chExt cx="1828800" cy="1728720"/>
          </a:xfrm>
        </p:grpSpPr>
        <p:sp>
          <p:nvSpPr>
            <p:cNvPr id="1751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52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53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754" name="Date Placeholder 1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9173-5858-4A43-90EA-AFEF14D1D48E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55" name="Slide Number Placeholder 4"/>
          <p:cNvSpPr/>
          <p:nvPr/>
        </p:nvSpPr>
        <p:spPr>
          <a:xfrm>
            <a:off x="7196040" y="6553080"/>
            <a:ext cx="165096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F0EC-1A6E-4100-B645-83BC63F90310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56" name="Rectangle 59"/>
          <p:cNvSpPr/>
          <p:nvPr/>
        </p:nvSpPr>
        <p:spPr>
          <a:xfrm>
            <a:off x="3032280" y="1084320"/>
            <a:ext cx="61736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725b"/>
                </a:solidFill>
                <a:latin typeface="Arial"/>
              </a:rPr>
              <a:t>CLARIFICATION  MEETING: QM58 CATEGORY 4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3896"/>
                </a:solidFill>
                <a:latin typeface="Arial"/>
              </a:rPr>
              <a:t>TENDER NO: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ace planning and interior design consultants at MWP, EAL And ERIC Building in Rosherville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DATE: 2022/09/16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725b"/>
                </a:solidFill>
                <a:latin typeface="Arial"/>
              </a:rPr>
              <a:t>Bongi Tshabalala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58" name=""/>
          <p:cNvSpPr txBox="1"/>
          <p:nvPr/>
        </p:nvSpPr>
        <p:spPr>
          <a:xfrm>
            <a:off x="107640" y="1125000"/>
            <a:ext cx="8707320" cy="53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460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Copy  of the Category 4 Quality requirement 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Category4 Quality Requirement - Explanation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Completion of : </a:t>
            </a: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A1 Method Statement and E:Form A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Templates</a:t>
            </a: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: A1 Method Statement and E:Form A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59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2C5E-9A2D-442F-B615-E72FE4AFD4E6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0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FC86-CDC4-4D98-8753-F5CD7998C5EE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y  of  Quality Requirement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2" name="Slide Number Placeholder 3"/>
          <p:cNvSpPr/>
          <p:nvPr/>
        </p:nvSpPr>
        <p:spPr>
          <a:xfrm>
            <a:off x="3132000" y="6453360"/>
            <a:ext cx="2880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0A1D-DBED-446F-A4FB-D6395610C5CD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pic>
        <p:nvPicPr>
          <p:cNvPr id="1763" name="Picture 5" descr=""/>
          <p:cNvPicPr/>
          <p:nvPr/>
        </p:nvPicPr>
        <p:blipFill>
          <a:blip r:embed="rId1"/>
          <a:stretch/>
        </p:blipFill>
        <p:spPr>
          <a:xfrm>
            <a:off x="217440" y="1341360"/>
            <a:ext cx="8242200" cy="5129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FE8A-D2F5-4DD1-BD21-EB62252F9039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5" name="Slide Number Placeholder 5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1AE7-CC68-42CB-B390-020B82466C58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701496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 Out  standing Quality Requirement  - Category 4</a:t>
            </a:r>
            <a:endParaRPr b="0" lang="en-US" sz="2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7" name="Rectangle 2"/>
          <p:cNvSpPr/>
          <p:nvPr/>
        </p:nvSpPr>
        <p:spPr>
          <a:xfrm>
            <a:off x="30240" y="1011240"/>
            <a:ext cx="878508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03896"/>
                </a:solidFill>
                <a:latin typeface="Arial"/>
                <a:ea typeface="Calibri"/>
              </a:rPr>
              <a:t>SECTION A:  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A.1  Quality Method statement based on scope. -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NB  Use   Eskom Quality Method  Template as a guide.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	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(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</a:t>
            </a:r>
            <a:r>
              <a:rPr b="1" lang="en-GB" sz="1400" spc="-1" strike="noStrike">
                <a:solidFill>
                  <a:srgbClr val="003896"/>
                </a:solidFill>
                <a:latin typeface="Arial"/>
                <a:ea typeface="Times New Roman"/>
              </a:rPr>
              <a:t>240-126469599: </a:t>
            </a:r>
            <a:r>
              <a:rPr b="1" lang="en-GB" sz="1400" spc="-1" strike="noStrike">
                <a:solidFill>
                  <a:srgbClr val="003896"/>
                </a:solidFill>
                <a:latin typeface="Arial"/>
                <a:ea typeface="Calibri"/>
              </a:rPr>
              <a:t>Method Statement Template)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A.2 Quality Policy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Approved by top 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management. 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96"/>
                </a:solidFill>
                <a:latin typeface="Arial"/>
              </a:rPr>
              <a:t>Commitment to: meet customer requirements / expectations; continual improvement; satisfying all applicable requirements including statutory requirements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A.3 Quality Objectives (KPAs/KPIs)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Approved by 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top management.(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SMART)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	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03896"/>
                </a:solidFill>
                <a:latin typeface="Arial"/>
                <a:ea typeface="Calibri"/>
              </a:rPr>
              <a:t>SECTION B: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B.1 Documented information for defined roles, responsibilities and authorities (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Organization chart  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/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Organogram and  Responsibility Matrix 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(must include but not limited to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quality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management function/role) (Clause 5.3 of ISO 9001:2015) 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	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B.2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Documented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information for Control of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Externally Provided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Processes, Products and Services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2" marL="85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(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 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Describe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 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how you  ensure that work completed by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external parties ( Sub-Contractor, Suppliers, Consultants, etc) 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comply with the requirements)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2" marL="85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Must include criteria for evaluation, selection, monitoring of performance, and re-evaluation of external providers (Clause 8.4 of ISO 9001:2015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2" marL="85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03896"/>
                </a:solidFill>
                <a:latin typeface="Arial"/>
                <a:ea typeface="Calibri"/>
              </a:rPr>
              <a:t>SECTION C: </a:t>
            </a:r>
            <a:r>
              <a:rPr b="1" lang="en-ZA" sz="1400" spc="-1" strike="noStrike">
                <a:solidFill>
                  <a:srgbClr val="ff0000"/>
                </a:solidFill>
                <a:latin typeface="Arial"/>
                <a:ea typeface="Calibri"/>
              </a:rPr>
              <a:t> To Complete and Sign </a:t>
            </a:r>
            <a:r>
              <a:rPr b="1" lang="en-ZA" sz="1400" spc="-1" strike="noStrike">
                <a:solidFill>
                  <a:srgbClr val="003896"/>
                </a:solidFill>
                <a:latin typeface="Arial"/>
                <a:ea typeface="Calibri"/>
              </a:rPr>
              <a:t>Form A  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- A1: Method Statement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graphicFrame>
        <p:nvGraphicFramePr>
          <p:cNvPr id="1769" name=""/>
          <p:cNvGraphicFramePr/>
          <p:nvPr/>
        </p:nvGraphicFramePr>
        <p:xfrm>
          <a:off x="179280" y="1052640"/>
          <a:ext cx="8425080" cy="5499000"/>
        </p:xfrm>
        <a:graphic>
          <a:graphicData uri="http://schemas.openxmlformats.org/drawingml/2006/table">
            <a:tbl>
              <a:tblPr/>
              <a:tblGrid>
                <a:gridCol w="3240360"/>
                <a:gridCol w="1728720"/>
                <a:gridCol w="936360"/>
                <a:gridCol w="638280"/>
                <a:gridCol w="297000"/>
                <a:gridCol w="720720"/>
                <a:gridCol w="863640"/>
              </a:tblGrid>
              <a:tr h="526680">
                <a:tc rowSpan="4"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od statement  Title </a:t>
                      </a: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( Title as per tender/RFQ title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ll Name</a:t>
                      </a: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( Supplier Representative Details 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iginated by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viewed by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if applicable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roved by: </a:t>
                      </a: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if applicable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ignation ( of the compiler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ct No ( of the compiler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ient </a:t>
                      </a: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(Division/Operating/ Business Unit as per tender RFQ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ender /RFQ Number/ Contract Number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gridSpan="4"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ity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gridSpan="3">
                  <a:txBody>
                    <a:bodyPr lIns="49320" rIns="49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Detailed Description (type in the information required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erence Document/ Procedure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ea /        Dept./  Discipline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0020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ope of work as described in the contract </a:t>
                      </a:r>
                      <a:r>
                        <a:rPr b="0" lang="en-GB" sz="10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document/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der/ tender 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Outline the scope of work as detailed in the Works Information of the NEC document/ RFQ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 Narrow"/>
                          <a:ea typeface="Times New Roman"/>
                        </a:rPr>
                        <a:t>Note the relevant document ref number ( if available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 Narrow"/>
                          <a:ea typeface="Times New Roman"/>
                        </a:rPr>
                        <a:t>Relevant discipline (if any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28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jectives/ Outputs / contract objectives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List 2-3 objectives  (SMART) in relation to the SOW outputs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Customer Focus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- The primary focus of quality management is to meet customer requirements and to strive to exceed customer expectations. How are customer needs identified, and effectively communicated to affected personnel?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How are customer needs identified, and effectively communicated to affected personnel in the organisation?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Competency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empowering and engaging people throughout the organization to enhance its capability to create value. What Human Resources, training and authority are required for delivering this SOW?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Provide details of skills/ competencies and training required to deliver the tender/order Scope of work?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36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 u="sng">
                          <a:solidFill>
                            <a:srgbClr val="003896"/>
                          </a:solidFill>
                          <a:uFillTx/>
                          <a:latin typeface="Arial"/>
                          <a:ea typeface="Times New Roman"/>
                        </a:rPr>
                        <a:t>Infrastructure:</a:t>
                      </a:r>
                      <a:r>
                        <a:rPr b="0" lang="en-GB" sz="10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 PPE required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PPE that is required in executing  the scope of work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0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8119-2152-47DE-935B-9892FA65A69E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1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5ED6-DAC7-41C4-A6E0-71951867FE10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2" name="TextBox 2"/>
          <p:cNvSpPr/>
          <p:nvPr/>
        </p:nvSpPr>
        <p:spPr>
          <a:xfrm rot="19546800">
            <a:off x="2463120" y="3479760"/>
            <a:ext cx="706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o be Completed</a:t>
            </a:r>
            <a:endParaRPr b="0" lang="en-US" sz="32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8C73-03E1-497F-A676-A5820F3975D6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4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0974-ED58-4AA6-AE75-DFDAFB67BD9F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pic>
        <p:nvPicPr>
          <p:cNvPr id="1775" name="Picture 7" descr=""/>
          <p:cNvPicPr/>
          <p:nvPr/>
        </p:nvPicPr>
        <p:blipFill>
          <a:blip r:embed="rId1"/>
          <a:srcRect l="36946" t="32564" r="35349" b="14710"/>
          <a:stretch/>
        </p:blipFill>
        <p:spPr>
          <a:xfrm>
            <a:off x="1652760" y="1125360"/>
            <a:ext cx="5079960" cy="5661360"/>
          </a:xfrm>
          <a:prstGeom prst="rect">
            <a:avLst/>
          </a:prstGeom>
          <a:ln w="0">
            <a:noFill/>
          </a:ln>
        </p:spPr>
      </p:pic>
      <p:sp>
        <p:nvSpPr>
          <p:cNvPr id="1776" name="TextBox 1"/>
          <p:cNvSpPr/>
          <p:nvPr/>
        </p:nvSpPr>
        <p:spPr>
          <a:xfrm>
            <a:off x="2735280" y="1079640"/>
            <a:ext cx="52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omplete  here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7" name="TextBox 1"/>
          <p:cNvSpPr/>
          <p:nvPr/>
        </p:nvSpPr>
        <p:spPr>
          <a:xfrm>
            <a:off x="2987640" y="6330960"/>
            <a:ext cx="52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omplete and sign here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–E Form A completion and signing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E1E8-E343-4CB4-A343-50C008B40A1F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80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DC05-88E9-4174-B835-2F170EC60606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graphicFrame>
        <p:nvGraphicFramePr>
          <p:cNvPr id="1781" name=""/>
          <p:cNvGraphicFramePr/>
          <p:nvPr/>
        </p:nvGraphicFramePr>
        <p:xfrm>
          <a:off x="469800" y="1268280"/>
          <a:ext cx="7458120" cy="3816360"/>
        </p:xfrm>
        <a:graphic>
          <a:graphicData uri="http://schemas.openxmlformats.org/drawingml/2006/table">
            <a:tbl>
              <a:tblPr/>
              <a:tblGrid>
                <a:gridCol w="5821560"/>
                <a:gridCol w="163656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mplates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9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tachments 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96"/>
                    </a:solidFill>
                  </a:tcPr>
                </a:tc>
              </a:tr>
              <a:tr h="482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</a:tr>
              <a:tr h="885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Quality Requirements / Evaluation Criteria – category 4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Tender Portal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</a:tr>
              <a:tr h="863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A.1: Method Statement 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</a:tr>
              <a:tr h="1008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E: Form A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Tender Portal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</a:tr>
            </a:tbl>
          </a:graphicData>
        </a:graphic>
      </p:graphicFrame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. Templates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graphicFrame>
        <p:nvGraphicFramePr>
          <p:cNvPr id="1783" name="Object 3"/>
          <p:cNvGraphicFramePr/>
          <p:nvPr/>
        </p:nvGraphicFramePr>
        <p:xfrm>
          <a:off x="6681960" y="3357720"/>
          <a:ext cx="914400" cy="62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960" y="3357720"/>
                    <a:ext cx="914400" cy="62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86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6D76-5845-4FA9-8753-07B00D4F464F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87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6611-03B5-45CB-8103-9ACEB99F0855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pic>
        <p:nvPicPr>
          <p:cNvPr id="1788" name="Picture 5" descr=""/>
          <p:cNvPicPr/>
          <p:nvPr/>
        </p:nvPicPr>
        <p:blipFill>
          <a:blip r:embed="rId1"/>
          <a:stretch/>
        </p:blipFill>
        <p:spPr>
          <a:xfrm>
            <a:off x="2771640" y="2205000"/>
            <a:ext cx="316872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8:15:51Z</dcterms:created>
  <dc:creator>engelight</dc:creator>
  <dc:description/>
  <dc:language>en-US</dc:language>
  <cp:lastModifiedBy>Bongi Tshabalala</cp:lastModifiedBy>
  <cp:lastPrinted>2019-02-20T13:05:04Z</cp:lastPrinted>
  <dcterms:modified xsi:type="dcterms:W3CDTF">2022-09-19T10:58:40Z</dcterms:modified>
  <cp:revision>944</cp:revision>
  <dc:subject/>
  <dc:title>Slide 1</dc:title>
</cp:coreProperties>
</file>